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4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E42-F0D0-4827-AB1C-670055BB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1BC-3402-429C-85EA-0897B8C0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4E8-8E6D-4AEF-A857-B22AFEC1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078-7BC8-4715-99A0-251600C1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314-F6D3-46EA-8911-4979FC5C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493-5E6A-4848-938E-1D00730E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2D8-E5B0-4001-928E-8B891FFD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7E3-8AA6-4868-AE5C-65582240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1DB-1C72-472D-BDC1-FC3A8791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97E-10BF-40C6-889C-9F656D6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0C3-DB11-4A75-896B-4A102691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3CA-C4D9-4831-B6D8-8230F81B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DB9C-9A6B-490C-83C6-DE3D57E62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29528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Tubman and the Underground railr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381880" cy="266688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Produce your own piece of art to represent one aspect of Harriet Tubman’s extraordinary life or the Underground railroad in general: in the style of Jacob Law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in on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your piece of high quality art work on the nice paper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colored in and sig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struggling see Mr. Wright for adv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1917, Died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New York when he was 13 and enrolled in art class in Har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ped out of HighSchool at 16 but stuck with the art cla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internationally famous for his paintings showing the various struggles of African-Americans in the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you dra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f all you should draft in pencil on rough paper - we have a very limited supply of good paper: kindly donated by the art depart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o complicated: look through your notes on Harriet Tubman and the underground railroad and decide upon a ‘theme’: the final picture will be quite small so you don’t want it to be too crow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y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8280" y="1573200"/>
            <a:ext cx="4216680" cy="52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380880"/>
            <a:ext cx="3881520" cy="608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43200" y="762120"/>
            <a:ext cx="3622680" cy="56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666880" y="609480"/>
            <a:ext cx="365148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7315200" cy="46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6858000" cy="441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1-26T02:22:26Z</dcterms:modified>
  <cp:revision>2</cp:revision>
  <dc:subject/>
  <dc:title>Harriet Tubman and the Underground railroad</dc:title>
</cp:coreProperties>
</file>